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464-E062-4672-935A-9987DBF1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59F-FED6-45AE-A752-FF357561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7BE-F12B-4162-AF41-4535DEB8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7F9-47EB-4C50-B25E-74513C6A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475F-DFD3-4AD8-BD68-6D5243BB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1BE0-4A58-49D8-A80D-BDC8D474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D4E0-6219-4554-BAA5-992E7D8B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6A62-E84D-469A-BF6A-C2B7A7AD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A866-5554-4932-B994-40BD428E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489B-61D6-4ECA-875E-622974B6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9CA5-B659-45A3-B641-F6D99051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044-73CF-414C-BF7B-959C04D7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48B3-F0F1-4F86-9544-2271D2D6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CCB9-A1E8-4E4F-A808-995ED40A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E6E5-C636-48F8-81CD-D5E31B14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7091-B9E2-4353-B4B4-AC7FC25B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C588-D25A-44FF-A319-A13D495F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1BB-E140-4C48-AA0F-F861D0EE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CB6-F12E-451D-A383-5E108D98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D1F-43DF-44AC-B660-16F643F5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A66-9C1C-4010-973B-312B9F3F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AE0-ED22-419E-BB42-4242CD4B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413-7A1E-47A6-8861-7A5A9048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939-C218-4BE4-BB2B-ED80E131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3192-EC08-4C1D-9BBB-5385BF89083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403C-D48E-4F73-9AD8-A54A428E3D3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Write Effective 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33526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OW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 AGA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Hunter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“Students will demonstrate their ability to add whole numbers.”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CD: “After several activities, SWBAT demonstrate their ability to add whole numbers by adding columns of figures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Wong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“ Plan a pizza party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CD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EXAMPL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Give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set of current conditions taken from a weather station, SWB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weather forecast covering the next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ours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Give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series of sentences written in past or present tense, SWB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wri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sentence in future tense with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grammatical errors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iewing a video, SWB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dentif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least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ush-pull factors relating to U.S. immigration in the late 1800’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sure- Part 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good objective: What-How-W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BCD meth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= Audience                 C= Con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= Behavior                  D= Degr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ng: “Describe what happens when two molds grow together.”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e precise, easy to r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sure: Part 2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hr (Penn State Websit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per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ritten objective tells you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w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knowledge, skill or attitu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desi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w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tho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instruction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i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 achievement is required.”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do you need clearly written objectives in daily lesson pla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earchers say that schools would have to increase instructional time 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1%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o cover existing benchmarks and standar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jectiv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n the mo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these existing benchmarks that students need to learn by the end of the un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need to focus on wha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arn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not wha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aught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the proper format of objective writing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truction that focuses on a clearly written objective is the number one factor t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act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tudent achieve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CPS OBSERVATION AND EVALUATION FORM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1: PLAN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s objectives that reflect the curriculum content stand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s instruction to achieve objectives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BD MODEL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r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determine what you want students to learn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bjecti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create an aligne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at will measure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nal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desig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viti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achieve the stated daily learning objec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 of Daily Lesson Objectives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UBD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ild towards the “Big Idea” 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“Enduring Understanding” found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in the CCPS curriculum guide 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VSC indicator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RUS OF OBJECTIVE WRITING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Madeline Hun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and W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the student will be able to do b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nd of the lesson and why it is import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Harry Wo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and H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ctives do two things: Assign and Ass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ducation Oasis Grou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, How, and W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stem that describes activity, add a verb, and determine the 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unter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Students will demonstrate their 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add whole numbers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jective: Explains what student will be able to d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y the end of the less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ng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Plan a pizza party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jective: Assign and Assess- Tells student what a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 be taken and what is to be performed or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ster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ducation Oasis Grou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“After completing today’s activities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WBA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reate a stem w/ conditio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cognize (Verb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eshadowing in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cid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f the Treaty of Versailles really d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d hostilit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termine the outco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fferentiat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tween the different categ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ro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hich is the “why” or process/produc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ea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series of math steps to be used to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ommended Format: ABCD</a:t>
            </a:r>
            <a:br>
              <a:rPr sz="36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Heinich, et.al.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FOUR PARTS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Who are the learners (SWBA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ehavi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Bloom’s ver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ondi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How? What will the student be given to accomplish the learning (methods us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egre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How will learning be measured/ Use a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4:27:59Z</dcterms:created>
  <dc:creator>Cheryl</dc:creator>
  <dc:description/>
  <dc:language>en-US</dc:language>
  <cp:lastModifiedBy>Robyn C Marsden</cp:lastModifiedBy>
  <dcterms:modified xsi:type="dcterms:W3CDTF">2011-04-19T16:28:42Z</dcterms:modified>
  <cp:revision>4</cp:revision>
  <dc:subject/>
  <dc:title>How to Write Effective Objectives</dc:title>
</cp:coreProperties>
</file>